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DAA803B-BBF8-42CB-BE01-1D4342F3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D8AED-81FC-48A6-9135-7BE4DC66BDA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8237E-4D0F-4962-9E61-642E7137983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66C72-2A41-43FA-9DA8-A3791F622C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737FB-AAEE-4B95-BB3D-90A98FEA05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E2B0D-0AC4-488D-B9B3-169D1D71B87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A33-963E-43C2-A772-2FA8E7AD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AD6-B2D6-4C63-8840-4D58899D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72B-B3F8-403F-9D02-430FED7C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DA1-B089-4B75-A41F-1AE97F39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E7EB-919C-457F-AECF-8D95DF68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A69-4363-4958-87E5-49E327BE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6F91-4FCD-4F14-8570-D10E6BA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B881-CAD8-4989-9B0A-CBB08E59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FE42-B54A-458C-8545-ABD942FE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8445-AA1D-4E1D-8819-84D400E8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16EB-9A02-4526-A2EC-202ABF9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E0B-D9CE-41D9-8B50-EFB9AAE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E896-2F47-4D7E-84D0-59A0AD5A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FAD4-56D1-4126-A6DC-6C694DB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0151-77CE-4DF8-BBA1-E9434350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798E-CB24-438A-AE00-5041FC34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DF4A-9F74-44B2-AD4D-38726537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DB7-C2D0-4EEB-AD19-B465432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138-AAAF-45B4-B976-EE58573C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D00-E14C-4231-9221-925372C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4B9-71F3-4E96-A0FC-7D421195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D68-28D6-42BF-8B44-8E61AF0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E4B-8B61-467B-9037-CA494896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E4F-07BB-471F-9F8B-B21169C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01F0-715C-49B1-ACAC-83E8F643258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389-1B7B-4715-A06A-D9467CA2BA8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1AE-EAB6-403F-B682-19462EC3010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Wendy Tel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6.1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6.2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Wendy Telford User</cp:lastModifiedBy>
  <dcterms:modified xsi:type="dcterms:W3CDTF">2009-08-24T04:47:58Z</dcterms:modified>
  <cp:revision>170</cp:revision>
  <dc:subject/>
  <dc:title>Math GAINS 2008-09</dc:title>
</cp:coreProperties>
</file>